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072-A6DE-4369-9091-19ACC0E6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548-CDF4-43D7-99B8-1E88EE7B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D4B-B0D9-4A33-82BC-2C05BD16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EAA-F53D-4458-85F1-68F84CEC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A70-7C69-46CA-9A2F-8DBA49A7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BF1-915A-4F0A-9E8C-DCA2C093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8CE-1EA4-4884-B5CC-BCA56EF5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182-5F62-4DD9-9FA0-30D6C69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975-CBA8-482F-9D75-9E10586C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F17-33F9-4A42-8FF2-E98CA3E9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8CF-1E3C-4C24-8020-BDB803B0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352-44E3-425D-B8AC-A2EB4AA5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4E543-C239-4B62-AE05-ABBA7F41F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onsexprime.fr/Sexe-sante/La-contraception-fais-ton-choix/La-meilleure-contraception-celle-que-l-on-choisit" TargetMode="External"/><Relationship Id="rId2" Type="http://schemas.openxmlformats.org/officeDocument/2006/relationships/hyperlink" Target="http://www.macontraception.fr/" TargetMode="External"/><Relationship Id="rId3" Type="http://schemas.openxmlformats.org/officeDocument/2006/relationships/hyperlink" Target="http://www.choisirsacontraception.fr/" TargetMode="External"/><Relationship Id="rId4" Type="http://schemas.openxmlformats.org/officeDocument/2006/relationships/hyperlink" Target="https://questionsexualite.fr/choisir-sa-contraception" TargetMode="External"/><Relationship Id="rId5" Type="http://schemas.openxmlformats.org/officeDocument/2006/relationships/hyperlink" Target="https://www.passeportsante.net/fr/Actualites/Dossiers/Fiche.aspx?doc=moyens-de-contraception" TargetMode="External"/><Relationship Id="rId6" Type="http://schemas.openxmlformats.org/officeDocument/2006/relationships/hyperlink" Target="https://www.filsantejeunes.com/sexe/contraception" TargetMode="External"/><Relationship Id="rId7" Type="http://schemas.openxmlformats.org/officeDocument/2006/relationships/hyperlink" Target="http://www.contraceptionmasculine.fr/" TargetMode="External"/><Relationship Id="rId8" Type="http://schemas.openxmlformats.org/officeDocument/2006/relationships/hyperlink" Target="https://www.passeportsante.net/fr/Actualites/Nouvelles/Fiche.aspx?doc=contraception-masculine-4-methodes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contraception horm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a contraception masculine hormo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Espace réservé du contenu 3" descr=""/>
          <p:cNvPicPr/>
          <p:nvPr/>
        </p:nvPicPr>
        <p:blipFill>
          <a:blip r:embed="rId1"/>
          <a:stretch/>
        </p:blipFill>
        <p:spPr>
          <a:xfrm>
            <a:off x="1363680" y="1600200"/>
            <a:ext cx="641664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1"/>
          <p:cNvSpPr/>
          <p:nvPr/>
        </p:nvSpPr>
        <p:spPr>
          <a:xfrm>
            <a:off x="5923080" y="630864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VT 2</a:t>
            </a:r>
            <a:r>
              <a:rPr b="0" i="1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Nathan 2019 p.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ructures des hormones sexue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1"/>
          <p:cNvSpPr/>
          <p:nvPr/>
        </p:nvSpPr>
        <p:spPr>
          <a:xfrm>
            <a:off x="5923080" y="630864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VT 2</a:t>
            </a:r>
            <a:r>
              <a:rPr b="0" i="1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Nathan 2019 p.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5" descr=""/>
          <p:cNvPicPr/>
          <p:nvPr/>
        </p:nvPicPr>
        <p:blipFill>
          <a:blip r:embed="rId1"/>
          <a:stretch/>
        </p:blipFill>
        <p:spPr>
          <a:xfrm>
            <a:off x="457200" y="3309840"/>
            <a:ext cx="8229600" cy="2764080"/>
          </a:xfrm>
          <a:prstGeom prst="rect">
            <a:avLst/>
          </a:prstGeom>
          <a:ln w="0">
            <a:noFill/>
          </a:ln>
        </p:spPr>
      </p:pic>
      <p:pic>
        <p:nvPicPr>
          <p:cNvPr id="49" name="Image 8" descr=""/>
          <p:cNvPicPr/>
          <p:nvPr/>
        </p:nvPicPr>
        <p:blipFill>
          <a:blip r:embed="rId2"/>
          <a:stretch/>
        </p:blipFill>
        <p:spPr>
          <a:xfrm>
            <a:off x="457200" y="1879560"/>
            <a:ext cx="7772400" cy="131292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9"/>
          <p:cNvSpPr/>
          <p:nvPr/>
        </p:nvSpPr>
        <p:spPr>
          <a:xfrm>
            <a:off x="536400" y="16081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Natur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10"/>
          <p:cNvSpPr/>
          <p:nvPr/>
        </p:nvSpPr>
        <p:spPr>
          <a:xfrm>
            <a:off x="495720" y="316548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e synthè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 1" descr=""/>
          <p:cNvPicPr/>
          <p:nvPr/>
        </p:nvPicPr>
        <p:blipFill>
          <a:blip r:embed="rId3"/>
          <a:stretch/>
        </p:blipFill>
        <p:spPr>
          <a:xfrm>
            <a:off x="5727600" y="4541760"/>
            <a:ext cx="1851120" cy="139536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2"/>
          <p:cNvSpPr/>
          <p:nvPr/>
        </p:nvSpPr>
        <p:spPr>
          <a:xfrm>
            <a:off x="5900760" y="6191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6"/>
          <p:cNvSpPr/>
          <p:nvPr/>
        </p:nvSpPr>
        <p:spPr>
          <a:xfrm>
            <a:off x="7578720" y="5114880"/>
            <a:ext cx="156528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iMethAndrolone Undecano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1"/>
          <p:cNvSpPr/>
          <p:nvPr/>
        </p:nvSpPr>
        <p:spPr>
          <a:xfrm>
            <a:off x="0" y="5754600"/>
            <a:ext cx="59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s atomes d’hydrogène sont représentés en blanc, les atomes de carbone en gris et les atomes d’oxygène en rouge. Toutes les hormones sexuelles naturelles sont fabriquées à partir du cholesté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Espace réservé du contenu 3" descr=""/>
          <p:cNvPicPr/>
          <p:nvPr/>
        </p:nvPicPr>
        <p:blipFill>
          <a:blip r:embed="rId1"/>
          <a:stretch/>
        </p:blipFill>
        <p:spPr>
          <a:xfrm>
            <a:off x="457200" y="2155680"/>
            <a:ext cx="8229600" cy="3414960"/>
          </a:xfrm>
          <a:prstGeom prst="rect">
            <a:avLst/>
          </a:prstGeom>
          <a:ln w="0">
            <a:noFill/>
          </a:ln>
        </p:spPr>
      </p:pic>
      <p:sp>
        <p:nvSpPr>
          <p:cNvPr id="58" name="ZoneTexte 4"/>
          <p:cNvSpPr/>
          <p:nvPr/>
        </p:nvSpPr>
        <p:spPr>
          <a:xfrm>
            <a:off x="5606640" y="630864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VT 2</a:t>
            </a:r>
            <a:r>
              <a:rPr b="0" i="1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Magnard 2019 p.1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DiMethAndrolone Undecanoate (DMAU)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récents essais d’une pilule pour homme, nommé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MethAndrolone Undecanoate (DMAU), ont donné des résultats jusqu’ici sans précédents dans ce domai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longue chaine assure une libération progressive du produit actif, limitant considérablement les effets secondaires souvent constatés avec les autres produi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autre partie peut se fixer sur les récepteurs à la testostérone, ce qui inhibe la sécrétions d’hormones hypophysai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1"/>
          <p:cNvSpPr/>
          <p:nvPr/>
        </p:nvSpPr>
        <p:spPr>
          <a:xfrm>
            <a:off x="5919120" y="630864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VT 2</a:t>
            </a:r>
            <a:r>
              <a:rPr b="0" i="1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Bordas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5900760" y="61912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1" descr=""/>
          <p:cNvPicPr/>
          <p:nvPr/>
        </p:nvPicPr>
        <p:blipFill>
          <a:blip r:embed="rId1"/>
          <a:stretch/>
        </p:blipFill>
        <p:spPr>
          <a:xfrm>
            <a:off x="457200" y="2341440"/>
            <a:ext cx="40384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DM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Espace réservé du contenu 3" descr="CMH.png"/>
          <p:cNvPicPr/>
          <p:nvPr/>
        </p:nvPicPr>
        <p:blipFill>
          <a:blip r:embed="rId1"/>
          <a:srcRect l="-33017" t="0" r="-33017" b="0"/>
          <a:stretch/>
        </p:blipFill>
        <p:spPr>
          <a:xfrm>
            <a:off x="-98568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1"/>
          <p:cNvSpPr/>
          <p:nvPr/>
        </p:nvSpPr>
        <p:spPr>
          <a:xfrm>
            <a:off x="6435720" y="6308640"/>
            <a:ext cx="25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VT 2</a:t>
            </a:r>
            <a:r>
              <a:rPr b="0" i="1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LLS 2019 p.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"/>
          <p:cNvSpPr/>
          <p:nvPr/>
        </p:nvSpPr>
        <p:spPr>
          <a:xfrm>
            <a:off x="5329080" y="1601640"/>
            <a:ext cx="368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MAU est testé sur les hommes pour rentrer dans la composition d’une pilule contraceptive masculine qui pourrait être proposée prochainement sur le march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4" descr="F HORM hom CONTROLE hormonal.png"/>
          <p:cNvPicPr/>
          <p:nvPr/>
        </p:nvPicPr>
        <p:blipFill>
          <a:blip r:embed="rId1"/>
          <a:stretch/>
        </p:blipFill>
        <p:spPr>
          <a:xfrm>
            <a:off x="2149560" y="0"/>
            <a:ext cx="482112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2" descr=""/>
          <p:cNvPicPr/>
          <p:nvPr/>
        </p:nvPicPr>
        <p:blipFill>
          <a:blip r:embed="rId1"/>
          <a:stretch/>
        </p:blipFill>
        <p:spPr>
          <a:xfrm>
            <a:off x="2085840" y="608040"/>
            <a:ext cx="57150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Webograp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ites généralis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onsexprime.fr/Sexe-sante/La-contraception-fais-ton-choix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macontraception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hoisirsacontraception.fr/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(redirigé vers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questionsexualite.fr/choisir-sa-contraception</a:t>
            </a:r>
            <a:r>
              <a:rPr b="0" i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www.passeportsante.net/fr/Actualites/Dossiers/Fiche.aspx?doc=moyens-de-contrace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s://www.filsantejeunes.com/sexe/contraception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ites spécifiq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contraceptionmasculine.fr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s://www.passeportsante.net/fr/Actualites/Nouvelles/Fiche.aspx?doc=contraception-masculine-4-methodes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ttps://www.youtube.com/watch?v=c0e2D8QNewg&amp;feature=emb_imp_woyt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ttps://www.medisite.fr/contraception-pilule-contraceptive-pour-homme-les-principaux-effets-secondaires.5317140.373055.html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https://www.filsantejeunes.com/la-contraception-ca-rime-aussi-avec-garcon-18982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09T12:16:20Z</dcterms:created>
  <dc:creator>e gillard</dc:creator>
  <dc:description/>
  <dc:language>en-US</dc:language>
  <cp:lastModifiedBy>EG</cp:lastModifiedBy>
  <cp:lastPrinted>2022-01-31T11:47:17Z</cp:lastPrinted>
  <dcterms:modified xsi:type="dcterms:W3CDTF">2023-01-26T16:07:56Z</dcterms:modified>
  <cp:revision>40</cp:revision>
  <dc:subject/>
  <dc:title>Chapitre 3A-2 : La régulation de la procréation humaine</dc:title>
</cp:coreProperties>
</file>