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AD6-7D47-4FEC-AC56-9E085E05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A75-51E4-4C4D-BAD6-DCFA706A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879-9A1D-4398-ABB5-78CC5BF5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AE1-1DDE-4ED1-9EF0-C8E95D64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6FE-FAA7-4092-949B-0BEEF0D1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F8F-10A1-4B06-8711-C1407CB5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219-BAF8-43D4-A9A8-355E73C0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C89-EE8E-4F68-B4E8-C29E665F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6D7-D36C-4C48-A197-FFC3B6B0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E1B-E588-493A-BDA8-8F904DA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9EC-694E-4093-A1BC-5D33412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A6C-DE3C-4365-9D3E-EF66E45F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2FA48-42E6-4386-9C6B-2A631001D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vt-egalite.fr/index.php/ressources-pedagogiques/lycee/1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vt-egalite.fr/index.php/ressources-pedagogiques/lycee/1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ntraceptions méca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 préservatif et les 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ebograp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onsexprime.fr/Sexe-sante/La-contraception-fais-ton-choix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macontraception.f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choisirsacontraception.fr/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(redirigé vers 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https://questionsexualite.fr/choisir-sa-contraceptio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passeportsante.net/fr/Actualites/Dossiers/Fiche.aspx?doc=moyens-de-contra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contraceptionmasculine.fr/les-methodes/la-ch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éservatif mascu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Espace réservé du contenu 6" descr="condom-in-jeans-pocket-with-red-awareness-ribbon-for-aids-and-hiv-close-up_cc-by-20.jpg"/>
          <p:cNvPicPr/>
          <p:nvPr/>
        </p:nvPicPr>
        <p:blipFill>
          <a:blip r:embed="rId1"/>
          <a:srcRect l="0" t="-34897" r="0" b="0"/>
          <a:stretch/>
        </p:blipFill>
        <p:spPr>
          <a:xfrm>
            <a:off x="636480" y="604800"/>
            <a:ext cx="3713400" cy="3257640"/>
          </a:xfrm>
          <a:prstGeom prst="rect">
            <a:avLst/>
          </a:prstGeom>
          <a:ln w="0">
            <a:noFill/>
          </a:ln>
        </p:spPr>
      </p:pic>
      <p:pic>
        <p:nvPicPr>
          <p:cNvPr id="45" name="Espace réservé du contenu 7" descr="condoms.jpg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619200" y="4140360"/>
            <a:ext cx="3671640" cy="25351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1"/>
          <p:cNvSpPr/>
          <p:nvPr/>
        </p:nvSpPr>
        <p:spPr>
          <a:xfrm>
            <a:off x="647640" y="11397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ns son emball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oneTexte 2"/>
          <p:cNvSpPr/>
          <p:nvPr/>
        </p:nvSpPr>
        <p:spPr>
          <a:xfrm>
            <a:off x="4575960" y="11620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roul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623520" y="383544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rou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tomie de l’appareil génital masculin adulte au rep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Espace réservé du contenu 4" descr=""/>
          <p:cNvPicPr/>
          <p:nvPr/>
        </p:nvPicPr>
        <p:blipFill>
          <a:blip r:embed="rId1"/>
          <a:stretch/>
        </p:blipFill>
        <p:spPr>
          <a:xfrm>
            <a:off x="947880" y="1994040"/>
            <a:ext cx="7053120" cy="3878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4626000" y="6307200"/>
            <a:ext cx="457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vt-egalite.fr/index.php/ressources-pedagogiques/lycee/1s#13-tc-expansion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 de texte 32"/>
          <p:cNvSpPr/>
          <p:nvPr/>
        </p:nvSpPr>
        <p:spPr>
          <a:xfrm>
            <a:off x="6767640" y="3284640"/>
            <a:ext cx="2376360" cy="29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3366ff"/>
                </a:solidFill>
                <a:uFillTx/>
                <a:latin typeface="Calibri"/>
                <a:ea typeface="ＭＳ 明朝"/>
              </a:rPr>
              <a:t>VOIES GENITALES IN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Vésicule sémin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Pro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Canal défér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Épididy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 de texte 32"/>
          <p:cNvSpPr/>
          <p:nvPr/>
        </p:nvSpPr>
        <p:spPr>
          <a:xfrm>
            <a:off x="0" y="2552760"/>
            <a:ext cx="3102120" cy="39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008000"/>
                </a:solidFill>
                <a:uFillTx/>
                <a:latin typeface="Calibri"/>
                <a:ea typeface="ＭＳ 明朝"/>
              </a:rPr>
              <a:t>ORGANES GENITAUX EXTERN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Corps érecti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Pénis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  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   Gland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Prépu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Méat urin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Bourses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     Scrot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alibri"/>
                <a:ea typeface="ＭＳ 明朝"/>
              </a:rPr>
              <a:t>GONAD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ＭＳ 明朝"/>
              </a:rPr>
              <a:t>Testicu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ＭＳ 明朝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ccolade fermante 7"/>
          <p:cNvSpPr/>
          <p:nvPr/>
        </p:nvSpPr>
        <p:spPr>
          <a:xfrm flipH="1">
            <a:off x="796320" y="3452760"/>
            <a:ext cx="285480" cy="1722600"/>
          </a:xfrm>
          <a:custGeom>
            <a:avLst/>
            <a:gdLst>
              <a:gd name="textAreaLeft" fmla="*/ -360 w 285480"/>
              <a:gd name="textAreaRight" fmla="*/ 102600 w 285480"/>
              <a:gd name="textAreaTop" fmla="*/ 7200 h 1722600"/>
              <a:gd name="textAreaBottom" fmla="*/ 1715400 h 172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299"/>
                </a:cubicBezTo>
                <a:lnTo>
                  <a:pt x="10800" y="10855"/>
                </a:lnTo>
                <a:cubicBezTo>
                  <a:pt x="10800" y="11005"/>
                  <a:pt x="16200" y="11154"/>
                  <a:pt x="21600" y="11154"/>
                </a:cubicBezTo>
                <a:cubicBezTo>
                  <a:pt x="16200" y="11154"/>
                  <a:pt x="10800" y="11304"/>
                  <a:pt x="10800" y="11453"/>
                </a:cubicBezTo>
                <a:lnTo>
                  <a:pt x="10800" y="21301"/>
                </a:lnTo>
                <a:cubicBezTo>
                  <a:pt x="10800" y="2145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égende sans bordure 2 10"/>
          <p:cNvSpPr/>
          <p:nvPr/>
        </p:nvSpPr>
        <p:spPr>
          <a:xfrm>
            <a:off x="1919160" y="1436760"/>
            <a:ext cx="790560" cy="691920"/>
          </a:xfr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égende sans bordure 2 13"/>
          <p:cNvSpPr/>
          <p:nvPr/>
        </p:nvSpPr>
        <p:spPr>
          <a:xfrm>
            <a:off x="3835440" y="5872320"/>
            <a:ext cx="790560" cy="690480"/>
          </a:xfr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égende sans bordure 2 15"/>
          <p:cNvSpPr/>
          <p:nvPr/>
        </p:nvSpPr>
        <p:spPr>
          <a:xfrm>
            <a:off x="3807000" y="5821200"/>
            <a:ext cx="790560" cy="69084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égende sans bordure 2 16"/>
          <p:cNvSpPr/>
          <p:nvPr/>
        </p:nvSpPr>
        <p:spPr>
          <a:xfrm>
            <a:off x="4684680" y="2352600"/>
            <a:ext cx="790560" cy="690480"/>
          </a:xfr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égende sans bordure 2 17"/>
          <p:cNvSpPr/>
          <p:nvPr/>
        </p:nvSpPr>
        <p:spPr>
          <a:xfrm>
            <a:off x="5695920" y="2006640"/>
            <a:ext cx="789120" cy="692280"/>
          </a:xfr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égende sans bordure 2 18"/>
          <p:cNvSpPr/>
          <p:nvPr/>
        </p:nvSpPr>
        <p:spPr>
          <a:xfrm>
            <a:off x="5300640" y="5821200"/>
            <a:ext cx="789120" cy="69084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égende sans bordure 2 19"/>
          <p:cNvSpPr/>
          <p:nvPr/>
        </p:nvSpPr>
        <p:spPr>
          <a:xfrm>
            <a:off x="3932280" y="3452760"/>
            <a:ext cx="790560" cy="69228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ccolade fermante 20"/>
          <p:cNvSpPr/>
          <p:nvPr/>
        </p:nvSpPr>
        <p:spPr>
          <a:xfrm flipH="1">
            <a:off x="1212120" y="5411880"/>
            <a:ext cx="420840" cy="1082520"/>
          </a:xfrm>
          <a:custGeom>
            <a:avLst/>
            <a:gdLst>
              <a:gd name="textAreaLeft" fmla="*/ -360 w 420840"/>
              <a:gd name="textAreaRight" fmla="*/ 151560 w 420840"/>
              <a:gd name="textAreaTop" fmla="*/ 10800 h 1082520"/>
              <a:gd name="textAreaBottom" fmla="*/ 1071720 h 10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4464"/>
                </a:lnTo>
                <a:cubicBezTo>
                  <a:pt x="10800" y="4814"/>
                  <a:pt x="16200" y="5163"/>
                  <a:pt x="21600" y="5163"/>
                </a:cubicBezTo>
                <a:cubicBezTo>
                  <a:pt x="16200" y="5163"/>
                  <a:pt x="10800" y="5513"/>
                  <a:pt x="10800" y="5862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 de texte 32"/>
          <p:cNvSpPr/>
          <p:nvPr/>
        </p:nvSpPr>
        <p:spPr>
          <a:xfrm>
            <a:off x="6767640" y="1380960"/>
            <a:ext cx="2333520" cy="182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ＭＳ 明朝"/>
              </a:rPr>
              <a:t>VOIES URINAIR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明朝"/>
              </a:rPr>
              <a:t>Uretè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明朝"/>
              </a:rPr>
              <a:t>V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明朝"/>
              </a:rPr>
              <a:t>Urèt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égende sans bordure 2 24"/>
          <p:cNvSpPr/>
          <p:nvPr/>
        </p:nvSpPr>
        <p:spPr>
          <a:xfrm>
            <a:off x="5232240" y="2851200"/>
            <a:ext cx="790560" cy="69048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égende sans bordure 2 25"/>
          <p:cNvSpPr/>
          <p:nvPr/>
        </p:nvSpPr>
        <p:spPr>
          <a:xfrm>
            <a:off x="5300640" y="3751200"/>
            <a:ext cx="789120" cy="69228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égende sans bordure 2 26"/>
          <p:cNvSpPr/>
          <p:nvPr/>
        </p:nvSpPr>
        <p:spPr>
          <a:xfrm>
            <a:off x="5300640" y="4048200"/>
            <a:ext cx="789120" cy="69048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égende sans bordure 2 27"/>
          <p:cNvSpPr/>
          <p:nvPr/>
        </p:nvSpPr>
        <p:spPr>
          <a:xfrm>
            <a:off x="5148360" y="4267080"/>
            <a:ext cx="788760" cy="69084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égende sans bordure 2 28"/>
          <p:cNvSpPr/>
          <p:nvPr/>
        </p:nvSpPr>
        <p:spPr>
          <a:xfrm>
            <a:off x="3971880" y="3832200"/>
            <a:ext cx="790560" cy="69048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égende sans bordure 2 29"/>
          <p:cNvSpPr/>
          <p:nvPr/>
        </p:nvSpPr>
        <p:spPr>
          <a:xfrm>
            <a:off x="4124160" y="3984480"/>
            <a:ext cx="790920" cy="69084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égende sans bordure 2 30"/>
          <p:cNvSpPr/>
          <p:nvPr/>
        </p:nvSpPr>
        <p:spPr>
          <a:xfrm>
            <a:off x="4230720" y="4564080"/>
            <a:ext cx="790560" cy="69048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éservatif fémi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Espace réservé du contenu 5" descr="female-condoms pixabay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Espace réservé du contenu 9" descr="condom préservatif fém.png"/>
          <p:cNvPicPr/>
          <p:nvPr/>
        </p:nvPicPr>
        <p:blipFill>
          <a:blip r:embed="rId2"/>
          <a:srcRect l="0" t="-33755" r="0" b="-33755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Espace réservé du contenu 5" descr=""/>
          <p:cNvPicPr/>
          <p:nvPr/>
        </p:nvPicPr>
        <p:blipFill>
          <a:blip r:embed="rId1"/>
          <a:stretch/>
        </p:blipFill>
        <p:spPr>
          <a:xfrm>
            <a:off x="2158920" y="2352600"/>
            <a:ext cx="6527880" cy="3589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tomie de l’appareil génital féminin adulte au rep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592600" y="6254640"/>
            <a:ext cx="4572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vt-egalite.fr/index.php/ressources-pedagogiques/lycee/1s#13-tc-expansion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 de texte 32"/>
          <p:cNvSpPr/>
          <p:nvPr/>
        </p:nvSpPr>
        <p:spPr>
          <a:xfrm>
            <a:off x="6350040" y="770040"/>
            <a:ext cx="2847960" cy="531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alibri"/>
                <a:ea typeface="ＭＳ 明朝"/>
              </a:rPr>
              <a:t>GONAD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ＭＳ 明朝"/>
              </a:rPr>
              <a:t>Ov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3366ff"/>
                </a:solidFill>
                <a:uFillTx/>
                <a:latin typeface="Calibri"/>
                <a:ea typeface="ＭＳ 明朝"/>
              </a:rPr>
              <a:t>VOIES GENITALES INTERN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Trompe uté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Pavill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Cavité</a:t>
            </a: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	</a:t>
            </a: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Muqueuse (endomètre)Utér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Muscles (myomètr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Co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Calibri"/>
                <a:ea typeface="ＭＳ 明朝"/>
              </a:rPr>
              <a:t>Va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ＭＳ 明朝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égende sans bordure 2 10"/>
          <p:cNvSpPr/>
          <p:nvPr/>
        </p:nvSpPr>
        <p:spPr>
          <a:xfrm>
            <a:off x="-958680" y="1417680"/>
            <a:ext cx="788760" cy="692280"/>
          </a:xfr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égende sans bordure 2 13"/>
          <p:cNvSpPr/>
          <p:nvPr/>
        </p:nvSpPr>
        <p:spPr>
          <a:xfrm>
            <a:off x="6089760" y="2855880"/>
            <a:ext cx="790560" cy="692280"/>
          </a:xfr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égende sans bordure 2 15"/>
          <p:cNvSpPr/>
          <p:nvPr/>
        </p:nvSpPr>
        <p:spPr>
          <a:xfrm>
            <a:off x="3807000" y="5821200"/>
            <a:ext cx="790560" cy="69084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égende sans bordure 2 16"/>
          <p:cNvSpPr/>
          <p:nvPr/>
        </p:nvSpPr>
        <p:spPr>
          <a:xfrm>
            <a:off x="2031840" y="2295360"/>
            <a:ext cx="790560" cy="692280"/>
          </a:xfr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égende sans bordure 2 17"/>
          <p:cNvSpPr/>
          <p:nvPr/>
        </p:nvSpPr>
        <p:spPr>
          <a:xfrm>
            <a:off x="1825560" y="1951200"/>
            <a:ext cx="789120" cy="690480"/>
          </a:xfr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égende sans bordure 2 18"/>
          <p:cNvSpPr/>
          <p:nvPr/>
        </p:nvSpPr>
        <p:spPr>
          <a:xfrm>
            <a:off x="5300640" y="5821200"/>
            <a:ext cx="789120" cy="690840"/>
          </a:xfr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 de texte 32"/>
          <p:cNvSpPr/>
          <p:nvPr/>
        </p:nvSpPr>
        <p:spPr>
          <a:xfrm>
            <a:off x="0" y="1380960"/>
            <a:ext cx="2709720" cy="18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ＭＳ 明朝"/>
              </a:rPr>
              <a:t>VOIES URINAIR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明朝"/>
              </a:rPr>
              <a:t>Uretè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明朝"/>
              </a:rPr>
              <a:t>V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明朝"/>
              </a:rPr>
              <a:t>Urèt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égende sans bordure 2 24"/>
          <p:cNvSpPr/>
          <p:nvPr/>
        </p:nvSpPr>
        <p:spPr>
          <a:xfrm>
            <a:off x="5218200" y="2646360"/>
            <a:ext cx="790560" cy="69228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égende sans bordure 2 25"/>
          <p:cNvSpPr/>
          <p:nvPr/>
        </p:nvSpPr>
        <p:spPr>
          <a:xfrm>
            <a:off x="5300640" y="3751200"/>
            <a:ext cx="789120" cy="69228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égende sans bordure 2 26"/>
          <p:cNvSpPr/>
          <p:nvPr/>
        </p:nvSpPr>
        <p:spPr>
          <a:xfrm>
            <a:off x="5300640" y="4048200"/>
            <a:ext cx="789120" cy="69048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égende sans bordure 2 27"/>
          <p:cNvSpPr/>
          <p:nvPr/>
        </p:nvSpPr>
        <p:spPr>
          <a:xfrm>
            <a:off x="5148360" y="4267080"/>
            <a:ext cx="788760" cy="69084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égende sans bordure 2 28"/>
          <p:cNvSpPr/>
          <p:nvPr/>
        </p:nvSpPr>
        <p:spPr>
          <a:xfrm>
            <a:off x="3971880" y="3751200"/>
            <a:ext cx="790560" cy="69228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égende sans bordure 2 29"/>
          <p:cNvSpPr/>
          <p:nvPr/>
        </p:nvSpPr>
        <p:spPr>
          <a:xfrm>
            <a:off x="4124160" y="3984480"/>
            <a:ext cx="790920" cy="69084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égende sans bordure 2 30"/>
          <p:cNvSpPr/>
          <p:nvPr/>
        </p:nvSpPr>
        <p:spPr>
          <a:xfrm>
            <a:off x="4230720" y="4564080"/>
            <a:ext cx="790560" cy="69048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égende sans bordure 2 33"/>
          <p:cNvSpPr/>
          <p:nvPr/>
        </p:nvSpPr>
        <p:spPr>
          <a:xfrm>
            <a:off x="5148360" y="3405240"/>
            <a:ext cx="788760" cy="69192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égende sans bordure 2 34"/>
          <p:cNvSpPr/>
          <p:nvPr/>
        </p:nvSpPr>
        <p:spPr>
          <a:xfrm>
            <a:off x="5076720" y="3998880"/>
            <a:ext cx="790560" cy="69048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égende sans bordure 2 35"/>
          <p:cNvSpPr/>
          <p:nvPr/>
        </p:nvSpPr>
        <p:spPr>
          <a:xfrm>
            <a:off x="5402160" y="6953400"/>
            <a:ext cx="790560" cy="69192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ccolade fermante 36"/>
          <p:cNvSpPr/>
          <p:nvPr/>
        </p:nvSpPr>
        <p:spPr>
          <a:xfrm>
            <a:off x="7761240" y="3338640"/>
            <a:ext cx="560520" cy="2292120"/>
          </a:xfrm>
          <a:custGeom>
            <a:avLst/>
            <a:gdLst>
              <a:gd name="textAreaLeft" fmla="*/ 0 w 560520"/>
              <a:gd name="textAreaRight" fmla="*/ 202320 w 560520"/>
              <a:gd name="textAreaTop" fmla="*/ 14400 h 2292120"/>
              <a:gd name="textAreaBottom" fmla="*/ 2277720 h 22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0"/>
                  <a:pt x="10800" y="440"/>
                </a:cubicBezTo>
                <a:lnTo>
                  <a:pt x="10800" y="8974"/>
                </a:lnTo>
                <a:cubicBezTo>
                  <a:pt x="10800" y="9194"/>
                  <a:pt x="16200" y="9414"/>
                  <a:pt x="21600" y="9414"/>
                </a:cubicBezTo>
                <a:cubicBezTo>
                  <a:pt x="16200" y="9414"/>
                  <a:pt x="10800" y="9634"/>
                  <a:pt x="10800" y="9854"/>
                </a:cubicBezTo>
                <a:lnTo>
                  <a:pt x="10800" y="21160"/>
                </a:lnTo>
                <a:cubicBezTo>
                  <a:pt x="10800" y="2138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 de texte 32"/>
          <p:cNvSpPr/>
          <p:nvPr/>
        </p:nvSpPr>
        <p:spPr>
          <a:xfrm>
            <a:off x="0" y="3060720"/>
            <a:ext cx="3191040" cy="379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8000"/>
                </a:solidFill>
                <a:uFillTx/>
                <a:latin typeface="Calibri"/>
                <a:ea typeface="ＭＳ 明朝"/>
              </a:rPr>
              <a:t>ORGANES GENITAUX EXTER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Cor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érecti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Clitoris   Prép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Vulve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    G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明朝"/>
              </a:rPr>
              <a:t>Orifice ur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grandes lèv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Petites lèv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明朝"/>
              </a:rPr>
              <a:t>Orifice vag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ccolade fermante 7"/>
          <p:cNvSpPr/>
          <p:nvPr/>
        </p:nvSpPr>
        <p:spPr>
          <a:xfrm flipH="1">
            <a:off x="1874160" y="3813120"/>
            <a:ext cx="314280" cy="1488960"/>
          </a:xfrm>
          <a:custGeom>
            <a:avLst/>
            <a:gdLst>
              <a:gd name="textAreaLeft" fmla="*/ 0 w 314280"/>
              <a:gd name="textAreaRight" fmla="*/ 113400 w 314280"/>
              <a:gd name="textAreaTop" fmla="*/ 7920 h 1488960"/>
              <a:gd name="textAreaBottom" fmla="*/ 1481040 h 148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0"/>
                  <a:pt x="10800" y="380"/>
                </a:cubicBezTo>
                <a:lnTo>
                  <a:pt x="10800" y="12445"/>
                </a:lnTo>
                <a:cubicBezTo>
                  <a:pt x="10800" y="12635"/>
                  <a:pt x="16200" y="12825"/>
                  <a:pt x="21600" y="12825"/>
                </a:cubicBezTo>
                <a:cubicBezTo>
                  <a:pt x="16200" y="12825"/>
                  <a:pt x="10800" y="13015"/>
                  <a:pt x="10800" y="13205"/>
                </a:cubicBezTo>
                <a:lnTo>
                  <a:pt x="10800" y="21220"/>
                </a:lnTo>
                <a:cubicBezTo>
                  <a:pt x="10800" y="2141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ccolade fermante 37"/>
          <p:cNvSpPr/>
          <p:nvPr/>
        </p:nvSpPr>
        <p:spPr>
          <a:xfrm flipH="1">
            <a:off x="846000" y="3965400"/>
            <a:ext cx="339840" cy="2538720"/>
          </a:xfrm>
          <a:custGeom>
            <a:avLst/>
            <a:gdLst>
              <a:gd name="textAreaLeft" fmla="*/ 360 w 339840"/>
              <a:gd name="textAreaRight" fmla="*/ 123120 w 339840"/>
              <a:gd name="textAreaTop" fmla="*/ 8640 h 2538720"/>
              <a:gd name="textAreaBottom" fmla="*/ 2530080 h 253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1"/>
                  <a:pt x="10800" y="241"/>
                </a:cubicBezTo>
                <a:lnTo>
                  <a:pt x="10800" y="9104"/>
                </a:lnTo>
                <a:cubicBezTo>
                  <a:pt x="10800" y="9225"/>
                  <a:pt x="16200" y="9345"/>
                  <a:pt x="21600" y="9345"/>
                </a:cubicBezTo>
                <a:cubicBezTo>
                  <a:pt x="16200" y="9345"/>
                  <a:pt x="10800" y="9466"/>
                  <a:pt x="10800" y="9586"/>
                </a:cubicBezTo>
                <a:lnTo>
                  <a:pt x="10800" y="21359"/>
                </a:lnTo>
                <a:cubicBezTo>
                  <a:pt x="10800" y="2148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égende sans bordure 2 31"/>
          <p:cNvSpPr/>
          <p:nvPr/>
        </p:nvSpPr>
        <p:spPr>
          <a:xfrm>
            <a:off x="5472000" y="6608880"/>
            <a:ext cx="790560" cy="69048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égende sans bordure 2 39"/>
          <p:cNvSpPr/>
          <p:nvPr/>
        </p:nvSpPr>
        <p:spPr>
          <a:xfrm>
            <a:off x="5472000" y="6254640"/>
            <a:ext cx="790560" cy="690840"/>
          </a:xfr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égende sans bordure 2 40"/>
          <p:cNvSpPr/>
          <p:nvPr/>
        </p:nvSpPr>
        <p:spPr>
          <a:xfrm>
            <a:off x="5218200" y="3060720"/>
            <a:ext cx="790560" cy="690480"/>
          </a:xfr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éservatifs masculins et féminins: seule contraception contre les 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Espace réservé du contenu 4" descr="les-femmes-aiment-les-hommes-qui-savent-les-proteger.jpg"/>
          <p:cNvPicPr/>
          <p:nvPr/>
        </p:nvPicPr>
        <p:blipFill>
          <a:blip r:embed="rId1"/>
          <a:srcRect l="-9670" t="0" r="-9670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Espace réservé du contenu 5" descr="les-femmes-preferent-les-hommes-qui-savent-les-proteger 1.jpg"/>
          <p:cNvPicPr/>
          <p:nvPr/>
        </p:nvPicPr>
        <p:blipFill>
          <a:blip r:embed="rId2"/>
          <a:srcRect l="-16832" t="0" r="-16832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IST: le S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 3" descr="dépistage.png"/>
          <p:cNvPicPr/>
          <p:nvPr/>
        </p:nvPicPr>
        <p:blipFill>
          <a:blip r:embed="rId1"/>
          <a:stretch/>
        </p:blipFill>
        <p:spPr>
          <a:xfrm>
            <a:off x="6254640" y="0"/>
            <a:ext cx="2889360" cy="4095720"/>
          </a:xfrm>
          <a:prstGeom prst="rect">
            <a:avLst/>
          </a:prstGeom>
          <a:ln w="0">
            <a:noFill/>
          </a:ln>
        </p:spPr>
      </p:pic>
      <p:pic>
        <p:nvPicPr>
          <p:cNvPr id="108" name="Image 4" descr="hiv.png"/>
          <p:cNvPicPr/>
          <p:nvPr/>
        </p:nvPicPr>
        <p:blipFill>
          <a:blip r:embed="rId2"/>
          <a:stretch/>
        </p:blipFill>
        <p:spPr>
          <a:xfrm>
            <a:off x="0" y="1417680"/>
            <a:ext cx="3935520" cy="3790800"/>
          </a:xfrm>
          <a:prstGeom prst="rect">
            <a:avLst/>
          </a:prstGeom>
          <a:ln w="0">
            <a:noFill/>
          </a:ln>
        </p:spPr>
      </p:pic>
      <p:pic>
        <p:nvPicPr>
          <p:cNvPr id="109" name="Image 5" descr="séropo.jpg"/>
          <p:cNvPicPr/>
          <p:nvPr/>
        </p:nvPicPr>
        <p:blipFill>
          <a:blip r:embed="rId3"/>
          <a:stretch/>
        </p:blipFill>
        <p:spPr>
          <a:xfrm>
            <a:off x="3935520" y="4230720"/>
            <a:ext cx="54766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IST: le HP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Image 2" descr="hpv.png"/>
          <p:cNvPicPr/>
          <p:nvPr/>
        </p:nvPicPr>
        <p:blipFill>
          <a:blip r:embed="rId1"/>
          <a:stretch/>
        </p:blipFill>
        <p:spPr>
          <a:xfrm>
            <a:off x="4191120" y="1920960"/>
            <a:ext cx="4952880" cy="2844720"/>
          </a:xfrm>
          <a:prstGeom prst="rect">
            <a:avLst/>
          </a:prstGeom>
          <a:ln w="0">
            <a:noFill/>
          </a:ln>
        </p:spPr>
      </p:pic>
      <p:pic>
        <p:nvPicPr>
          <p:cNvPr id="112" name="Image 3" descr="hpv met.png"/>
          <p:cNvPicPr/>
          <p:nvPr/>
        </p:nvPicPr>
        <p:blipFill>
          <a:blip r:embed="rId2"/>
          <a:stretch/>
        </p:blipFill>
        <p:spPr>
          <a:xfrm>
            <a:off x="0" y="1787400"/>
            <a:ext cx="3816360" cy="3102120"/>
          </a:xfrm>
          <a:prstGeom prst="rect">
            <a:avLst/>
          </a:prstGeom>
          <a:ln w="0">
            <a:noFill/>
          </a:ln>
        </p:spPr>
      </p:pic>
      <p:pic>
        <p:nvPicPr>
          <p:cNvPr id="113" name="Image 4" descr="vaccin hpv.png"/>
          <p:cNvPicPr/>
          <p:nvPr/>
        </p:nvPicPr>
        <p:blipFill>
          <a:blip r:embed="rId3"/>
          <a:stretch/>
        </p:blipFill>
        <p:spPr>
          <a:xfrm>
            <a:off x="2492280" y="4549680"/>
            <a:ext cx="42544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age 2" descr=""/>
          <p:cNvPicPr/>
          <p:nvPr/>
        </p:nvPicPr>
        <p:blipFill>
          <a:blip r:embed="rId1"/>
          <a:stretch/>
        </p:blipFill>
        <p:spPr>
          <a:xfrm>
            <a:off x="2085840" y="608040"/>
            <a:ext cx="57150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9T12:16:20Z</dcterms:created>
  <dc:creator>e gillard</dc:creator>
  <dc:description/>
  <dc:language>en-US</dc:language>
  <cp:lastModifiedBy>EG</cp:lastModifiedBy>
  <cp:lastPrinted>2022-01-31T11:47:17Z</cp:lastPrinted>
  <dcterms:modified xsi:type="dcterms:W3CDTF">2023-01-26T16:15:17Z</dcterms:modified>
  <cp:revision>33</cp:revision>
  <dc:subject/>
  <dc:title>Chapitre 3A-2 : La régulation de la procréation humaine</dc:title>
</cp:coreProperties>
</file>